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9DE-EBB3-4D41-B360-F1D14F88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6B7-0A2B-4FFB-A9EA-9D09255B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51E-405A-43A4-8331-12033059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5D6-E2AE-4AAE-A147-3B4C761D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9FB-EDEA-4CB5-BF9E-11888CFB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A9C-A789-4EF2-8FBB-DA74BE7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8E0-C80F-4AD3-91D6-A396DE2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910-DBB9-417D-B6B5-B1CBBC8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9F7-519D-44CB-A395-C933D6E9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EE1-B91E-4530-9340-A55793C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2CE-C9AB-4C15-BEDA-8ABA211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58D-2CBE-4ABA-8C52-D6067BB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99E3-5B57-4DCA-BDAB-47441CF40D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ye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AGOPLD5CAL7S2P6CATZ9PF7CAM3QQJOCAFU19W2CAZTB0XJCAUNFFNLCAT91JIUCAP2NSOSCAQVJ9OJCAVUW3W6CAOUZRGFCAIYQ4C5CAZF6OZLCAA1VPIQCA3HZRDTCAKRZ363CA91A01TCAJGF9RICACF0XD8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Line 16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4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Point 1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Heart blue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9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2268360" y="3500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sy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nonym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si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m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2411280" y="522936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a similar mea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2"/>
          <p:cNvSpPr/>
          <p:nvPr/>
        </p:nvSpPr>
        <p:spPr>
          <a:xfrm>
            <a:off x="2214720" y="1571760"/>
            <a:ext cx="23749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no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3" descr="Box02 v2"/>
          <p:cNvPicPr/>
          <p:nvPr/>
        </p:nvPicPr>
        <p:blipFill>
          <a:blip r:embed="rId5"/>
          <a:stretch/>
        </p:blipFill>
        <p:spPr>
          <a:xfrm>
            <a:off x="5076720" y="1628640"/>
            <a:ext cx="1897200" cy="149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5"/>
          <p:cNvSpPr/>
          <p:nvPr/>
        </p:nvSpPr>
        <p:spPr>
          <a:xfrm>
            <a:off x="7093080" y="1628640"/>
            <a:ext cx="180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8000"/>
                </a:solidFill>
                <a:latin typeface="Arial"/>
              </a:rPr>
              <a:t>c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8000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2"/>
          <p:cNvSpPr/>
          <p:nvPr/>
        </p:nvSpPr>
        <p:spPr>
          <a:xfrm>
            <a:off x="2214720" y="228600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 Susan de Lautour</cp:lastModifiedBy>
  <dcterms:modified xsi:type="dcterms:W3CDTF">2010-02-28T16:36:18Z</dcterms:modified>
  <cp:revision>34</cp:revision>
  <dc:subject/>
  <dc:title>Simile</dc:title>
</cp:coreProperties>
</file>